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E58-EA49-465E-8E8F-E6792198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C17-F831-4BF0-9670-112B80D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0F4-2E42-414B-B574-FCFAD1A8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F45-A198-490E-A41C-08A95CA6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D13-F950-4EA3-9340-B77F14E2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90A-B766-44C4-87EF-A4FD7FE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CB9-A721-4CFD-8844-DBE67A69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B8B-5B20-4DF6-A29C-07C72B4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A8C-73A4-4747-9EB3-2024538D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73A-C74D-45F9-91D3-76E69C1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4D2-C52D-45D0-B124-D16BF2EA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D87-8A34-4229-B843-57123DEA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AE9-5695-47DE-9A5E-98B5EE63A676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76B-DEE0-4F9B-AEBB-99E587AE6D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6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ритерии надежности невосстанавливаемых систем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96A-305B-4ED8-8CA3-47E22CAD66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характеризует долю изделий, отказывающих в единицу времени, начиная с момента времен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несенную к числу изделий, работоспособных в момент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оценивают по следующей формул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4149720"/>
          <a:ext cx="55454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149720"/>
                    <a:ext cx="55454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B8D-2795-46CC-BBC1-3C9D60A36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и вероятность безотказной работы связаны между собой зависим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24360" y="2276640"/>
          <a:ext cx="223200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76640"/>
                    <a:ext cx="223200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80" y="37616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085-9875-475D-9A6A-ED58D385A1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оказатели надежности невосстанавливаемого элемента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ероятность его безотказной работы в течение времен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ероятность отказа в течение времен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среднее время безотказной работы (средняя наработка до отказ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плотность распределения времени безотказной рабо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λ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нтенсивность отказа в момент времен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ʌ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— функция ресур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рɣ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— гамма-процентный ресурс, представляющий собой суммарную наработку, в течение которой объект не достигнет предельного состояния с вероятностью ɣ, выраженной в процент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AB2-2D00-4B8A-91FF-B6E6122AE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роятностью безотказной рабо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func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al func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называется вероятность того, что в пределах заданной наработки отказ объекта не возникнет, т.е. технический объект не откажет в течение времен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ли что время ξ   работы до отказа технического объекта больше времени его функционирован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(t) = Р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t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12D-83D7-4DBC-984C-7989272DB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ероятность безотказной работы имеет следующие достоин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арактеризует надежность во времени, являясь интервальной оценко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ределяет многие важные показатели техники, например эффективность, безопасность, живучесть, рис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равнительно просто вычисляется и определяется по статистическим данным об отказах техн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таточно полно характеризует надежность невосстанавливаемой 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этого критерия — ограниченность применения. Вероятность безотказной работы характеризует надежность невосстанавливаемой техники или восстанавливаемой до первого ее отка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778-CCE2-463E-9279-0594143C8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асто назыв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кцией надежности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лотность распределения наработки до отказа связана с вероятностью безотказной работы соотношение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статистическим данным об отказах, полученным из эксперимента или эксплуатации, функ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пределяется следующей статистической оценк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68360" y="1916280"/>
          <a:ext cx="40323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16280"/>
                    <a:ext cx="40323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24000" y="4797360"/>
          <a:ext cx="4537080" cy="18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4537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C0D-1A4D-402B-9B53-ECE7E6BB0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амма-процентная наработка до отказ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ile operating time to 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наработка, в течение которой отказ объекта не возникнет с вероятностью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выраженной в процент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редняя наработка до отказа Т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 operating time to 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применяется к невосстанавливаемым техническим объектам и является численной характеристикой, равной математическому ожиданию наработки объекта от начала эксплуатации до первого отказа; определяется по общему правилу нахождения математического ожидания случайной величи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М(ξ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424-4F73-42CD-BE84-D6ECE538F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редняя наработка на отказ (наработка на отказ) Т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 operating time between failur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применяется для восстанавливаемых объектов и определяется как отношение суммарной наработки восстанавливаемого объекта к математическому ожиданию числа его отказов в течение этой на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F51-8D88-4490-8448-6CBD45B0F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лотность распределения времени безотказной работы (частота отказ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это плотность распределения случайной величины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иболее полно характеризует надежность техники в данный момент (точечная характеристика). По ней можно определить любой показатель надежности невосстанавливаемой системы. В этом основное достоинство плотности распределения времени безотказной раб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тистическ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яется отношением числа отказавших образцов техники в единицу времени к числу испытуемых образцов при условии, что отказавшие образцы не восполняются исправным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=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067280" y="4581360"/>
          <a:ext cx="136836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581360"/>
                    <a:ext cx="13683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C3E-E6CF-4F6D-8688-C2A3674A34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нтенсивность отказов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λ(t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 r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условная плотность вероятности возникновения отказа объекта, определяемая при условии, что до рассматриваемого момента времени отказ не воз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нсивность отказов используют для характеристики безотказности невосстанавливаемых технических объектов и определяют как отношение плотности распределения к вероятности безотказной работы объек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7640" y="4149720"/>
          <a:ext cx="23050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149720"/>
                    <a:ext cx="23050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87C-2458-4C57-A987-BFEDE3BF8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4-03-12T05:05:47Z</dcterms:modified>
  <cp:revision>24</cp:revision>
  <dc:subject/>
  <dc:title>Лекция  № 11 </dc:title>
</cp:coreProperties>
</file>